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B56-4E4A-4087-825A-649DB486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EF2-29D2-4B8A-938E-1B6B5FBB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AFE-B89F-4ECE-AA96-307E943A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5BC-4820-4106-BB57-79E0C6E7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F65-B968-4DD7-BE9E-9F2A14C4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E83-0209-4780-B489-92700B27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7E8-531D-4D53-91C2-BE2EE1E0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1D5-1629-430D-8113-D616B3E3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F54-835C-47AA-84CF-5533306F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E82-52DE-409F-9B81-30C832A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02F-FD58-4140-BCD5-17507D14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1ED-4BF4-4C84-AF55-C67B34D9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46EB-09DC-40B8-B9A5-5707333FD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2060640"/>
            <a:ext cx="698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SSIVE VOICE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46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being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. Cup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has never been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 F.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.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was being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47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being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. Cup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has never been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 F.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.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was being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ll be h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should write      The songs ______________by Mad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735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should write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ng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 be writ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Mad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50920" y="1557360"/>
            <a:ext cx="5257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ET'S PRAC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19916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tense has a passive form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assive is formed b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TO B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+  PAST PARTIC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2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CO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y que poner el verbo “TO BE” en el tiempo verbal que ser nos p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61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_______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___________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stadium_______ 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uropean Cup___ (never) by a French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____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61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___________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stadium_______ 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uropean Cup___ (never) by a French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____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6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_______ 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uropean Cup___ (never) by a French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____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being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uropean Cup___ (never) by a French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____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61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being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. Cup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has never been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 F.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____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0"/>
            <a:ext cx="964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being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. Cup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has never been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 F.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5:04:32Z</dcterms:created>
  <dc:creator>rmi</dc:creator>
  <dc:description/>
  <dc:language>en-US</dc:language>
  <cp:lastModifiedBy>IESFGL</cp:lastModifiedBy>
  <dcterms:modified xsi:type="dcterms:W3CDTF">2010-05-27T09:06:23Z</dcterms:modified>
  <cp:revision>11</cp:revision>
  <dc:subject/>
  <dc:title>Diapositiva 1</dc:title>
</cp:coreProperties>
</file>